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E9B4-45A9-49E2-8BA1-ED5852E6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A23-ECAC-4523-95D6-C65C1DE6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A9E-9F50-494A-95DF-E89331AB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8D4-89E9-41A4-955F-FDE1FAD1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B09-6C80-4F59-8908-DDBA84CF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ED9-0BEF-4056-A4B2-D8730D1C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E59F-DC27-4CBE-B665-C48B7D72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069-B82F-4726-97F5-BB532671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2DE-C7CC-45FA-B7A8-C3DA4BAB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310E-3847-40C7-9602-8DBEDD54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ED6E-052C-4A60-9CFA-8897C434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B37-7BD9-4C94-A8CD-7C7544A1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4A47-FB1E-4928-97BB-2433F70C2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Straight Connector 3"/>
          <p:cNvSpPr/>
          <p:nvPr/>
        </p:nvSpPr>
        <p:spPr>
          <a:xfrm flipH="1">
            <a:off x="5103360" y="382680"/>
            <a:ext cx="3240" cy="38862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8:51:32Z</dcterms:created>
  <dc:creator>PorterfP</dc:creator>
  <dc:description/>
  <dc:language>en-US</dc:language>
  <cp:lastModifiedBy>PorterfP</cp:lastModifiedBy>
  <dcterms:modified xsi:type="dcterms:W3CDTF">2008-08-27T19:51:50Z</dcterms:modified>
  <cp:revision>2</cp:revision>
  <dc:subject/>
  <dc:title>Slide 1</dc:title>
</cp:coreProperties>
</file>